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542A7-9AC2-48FC-8081-F30A33BAB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6C6CB-6840-4B2A-A07F-1AE7E5589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A4939-9FBA-4EB6-A907-74763C16E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18F4B-538F-4E83-A731-08144FAC0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D1169A-2421-4C7C-A459-863BC33E7C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9E76E-E088-4234-9B7A-3B4E74D35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7D1C8-EC8D-43AF-8CE2-366EB7773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58A4F-4856-4F6B-9368-E6576329A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D70613-7FFF-4553-83BC-2333B2BEB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5640"/>
            <a:ext cx="7772400" cy="529956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4DF40C-5DD7-480F-9B46-99A459F6C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B05F2-209E-4868-B369-C24ED0949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F9A27-2334-455C-B56D-376676E83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55109-BC9F-4BAA-B092-9D61DDFA9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7ED65-7021-4A39-9491-5FB6ADB93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81265-9B01-4E47-B1CF-CC459014F5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589A11-712F-46D1-BC7C-9398169C86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9B8096-E0CE-4647-8DFB-906F4FC74F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A98C6-6D94-40E4-BD29-3D9126D03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2D729-0931-4D96-8514-ADFD8CF31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3613C-D84B-49F5-848B-0C474D8ED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95722-7D20-4EE6-89B9-4154A1C3E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97792-5497-45B3-AD14-3A7B14ECB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226C1-F22C-483B-AE46-AAB1FBDCD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04B3D-81F8-4973-8C93-47C048F05B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2D81E-8E1F-4AB2-B429-266C6FB13CA2}"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C39A9-02FB-42B7-90C1-A355D9D1057D}"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irst Wave</a:t>
            </a:r>
            <a:endParaRPr b="0" lang="en-US" sz="4400" spc="-1" strike="noStrike">
              <a:solidFill>
                <a:srgbClr val="ff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opher Landrum</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8th perio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ecial and Vulnerable</a:t>
            </a:r>
            <a:endParaRPr b="0" lang="en-US" sz="4400" spc="-1" strike="noStrike">
              <a:solidFill>
                <a:srgbClr val="ffffff"/>
              </a:solidFill>
              <a:latin typeface="Tahoma"/>
            </a:endParaRPr>
          </a:p>
        </p:txBody>
      </p:sp>
      <p:sp>
        <p:nvSpPr>
          <p:cNvPr id="85"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aldives and Kiribaki highlight a hidden challenge for coping with climate change. It’s not just about slowing the emissions of greenhouse gases. It’s also about figuring out what to do for localities threatened with the possibility of extinction from rising ocean wat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520"/>
            <a:ext cx="7772400" cy="129528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ecial and Vulnerable</a:t>
            </a:r>
            <a:endParaRPr b="0" lang="en-US" sz="4400" spc="-1" strike="noStrike">
              <a:solidFill>
                <a:srgbClr val="ffffff"/>
              </a:solidFill>
              <a:latin typeface="Tahoma"/>
            </a:endParaRPr>
          </a:p>
        </p:txBody>
      </p:sp>
      <p:sp>
        <p:nvSpPr>
          <p:cNvPr id="87" name="PlaceHolder 2"/>
          <p:cNvSpPr>
            <a:spLocks noGrp="1"/>
          </p:cNvSpPr>
          <p:nvPr>
            <p:ph type="subTitle"/>
          </p:nvPr>
        </p:nvSpPr>
        <p:spPr>
          <a:xfrm>
            <a:off x="1523880" y="2209320"/>
            <a:ext cx="6400800" cy="441972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g time arises from two factors: Greenhouse gases already in the atmosphere will continue to do damage for years to come, and damage from gases will be added during the time it would take to implement any public or private sector plans to curb future emissio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18:25:17Z</dcterms:created>
  <dc:creator>PA Department of Education</dc:creator>
  <dc:description/>
  <dc:language>en-US</dc:language>
  <cp:lastModifiedBy>PA Department of Education</cp:lastModifiedBy>
  <dcterms:modified xsi:type="dcterms:W3CDTF">2009-05-22T18:32:01Z</dcterms:modified>
  <cp:revision>4</cp:revision>
  <dc:subject/>
  <dc:title>First Wave</dc:title>
</cp:coreProperties>
</file>